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355-FF1E-48E4-9C28-ECD7D905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7A4-768C-46DA-9085-722C9A81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51E-E8EA-4254-950E-F8F04A18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3B8-86FF-4FB6-BA69-5BF32003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C63C-A456-4C5E-A6A8-18665D3D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8541-E278-4059-A456-B297ACC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1D5B-31AE-4E08-80EB-71A3C3C0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A404-5634-45E6-87F6-DE5F10DB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0F4A-CF2D-42D3-B620-2687918E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AB2E-517D-40F5-9B92-CA65EB1E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7AAC-9BBC-4C74-8F86-B37FCB4C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338-79FE-4D1D-A466-15A71D62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54A-577F-42FE-A693-91CEA730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75C8-2D5A-4C7D-8EED-B0FD5E6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5FF-C98A-4E1C-A6BC-EBF7C6E9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31D4-4FDC-4E8A-AF27-C8F149C3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D5D5-9668-4857-8535-C7803BD1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060-EBDC-4FA4-86D8-FC16439D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36C-973B-412B-AB93-6EC58C07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646-D75A-4854-9F32-95696C8B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5FC-A978-448D-85FF-2FAED81F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F42-EE6D-4122-989D-BE231BA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475-7AD2-48D0-A774-543D1CA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5F4-C64F-47DD-8AD9-8848AEF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06BE-ED45-49B4-AE9D-86026B813A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8886-DB0E-48C9-BF05-78CE409FED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derstanding Postwar Tens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erican Studies – Chapter 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during Racial and Religious Ten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 Section 6 an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five causes and three effects of tension discussed in this se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cco &amp; Vanzet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 Section 1 an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rite three important facts about the c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 – Sacco and Vanzetti left the U.S. during WW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ich two things should most influence the clemency hear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ditional Fa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c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al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9 years 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a g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d in labor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 U.S. during WW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rch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nzet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al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2 years 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a g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d in labor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 U.S. during WW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rch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ding Not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2 Emerging Economic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3 Rising Labor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4 Growing Political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5 Increasing Social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st three causes and three effects for each tension listed in each S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26.2 Emerging Economic Ten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use 1 = The federal government cancelled wartime contra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ffect 1 = Hundreds of factories clos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9599" r="0" b="0"/>
          <a:stretch/>
        </p:blipFill>
        <p:spPr>
          <a:xfrm>
            <a:off x="-1523880" y="0"/>
            <a:ext cx="121917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5:09:41Z</dcterms:created>
  <dc:creator> </dc:creator>
  <dc:description/>
  <dc:language>en-US</dc:language>
  <cp:lastModifiedBy>School District U46</cp:lastModifiedBy>
  <dcterms:modified xsi:type="dcterms:W3CDTF">2008-01-22T15:11:16Z</dcterms:modified>
  <cp:revision>6</cp:revision>
  <dc:subject/>
  <dc:title>Understanding Postwar Tensions</dc:title>
</cp:coreProperties>
</file>